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E8A9-2BE3-445F-B06D-07A755422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Ti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-Base 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-Base Titr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mL of 2.00 M H2SO4  are required to neutralize 50.0 mL of 1.00 M K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SO4   + 2KOH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SO4  +  2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500 L x 1.00 mole KOH  x 1 mole H2SO4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2 mole K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     1000 mL   =    12.5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ole KO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1 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 N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w many mL of 2.00 M H2SO4  are required to neutralize 50.0 mL of 1.00 M KOH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2SO4   + 2KOH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K2SO4  +  2H2O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500 L x 1.00 mole KOH  x 1 mole H2SO4 x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2 mole KO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x       1000 mL   =    12.5 m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mole KOH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1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aOH   +  H3PO4           Na3PO4  +  3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0.45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0.80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7.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NaOH   +  H3PO4           Na3PO4  +  3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0.45 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0.80 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)  7.2 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40 L x 1.5 mole NaOH x 1 mole H3P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3 mole 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       1            =    0.80 mol/L  = 0.8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25 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 S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40 L x 1.5 mole NaOH x 1 mole H3PO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3 mole NaO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x        1            =    0.80 mol/L  = 0.80 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25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ization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n acid and bases with equal amounts of hydrogen ion H+ and hydroxide ions OH- are mixed, the resulting solution is 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aq)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  HCl(aq)          NaCl   +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 2 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CaCl2   + 2H2O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alization Reac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en acid and bases with equal amounts of hydrogen ion H+ and hydroxide ions OH- are mixed, the resulting solution is neutral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OH (aq)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+   HCl(aq)          NaCl   +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acid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a(OH)2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+  2 HC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CaCl2   + 2H2O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acid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and OH- combine to produc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        +        OH-                    2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rom acid            from 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t ionic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+               +       OH-                 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3O+ and OH- combine to produce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3O+          +        OH-                    2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rom acid            from 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neutra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t ionic equation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              +       OH-                 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Equations for 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strong acids, bases, and salt as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 out matche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net ionic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    +   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onic Equations for 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strong acids, bases, and salt as 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ross out matched 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a net ionic reac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    +   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Neutralization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equation for the neutralization between magnesium hydroxide and nitric aci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rite the formulas of the acid and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    HNO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alance to give equal OH- and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    2 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lancing Neutralization Equa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the equation for the neutralization between magnesium hydroxide and nitric acid.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.  Write the formulas of the acid and bas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    HNO3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  Balance to give equal OH- and H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    2 HNO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rite the produ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2HNO3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g(NO3)2  +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tal and nonmetal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Balanc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2 HNO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Mg(NO3)2  +  2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 Write the products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2HNO3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Mg(NO3)2  +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metal and nonmetal)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. Balance produ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2 HNO3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Mg(NO3)2  +  2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 HCl  + __ Al(OH)3              __AlCl3  +  __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, 3, 3,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3, 1, 1, 1       3)  3, 1, 1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__ Ba(OH)2  + __H3PO4         __Ba3(PO4)2  +  __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, 2, 2,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3, 3, 1, 6       3)  2, 3, 1,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__ HCl  + __ Al(OH)3              __AlCl3  +  __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1, 3, 3, 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 3, 1, 1, 1       3)  3, 1, 1 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.__ Ba(OH)2  + __H3PO4         __Ba3(PO4)2  +  __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3, 2, 2, 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 3, 3, 1, 6       3)  2, 3, 1, 6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ution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 3HCl  +   1Al(OH)3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AlCl3  + 3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 3Ba(OH)2  +  2H3PO4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1Ba3(PO4)2  +  6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Solution N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A.  3HCl  +   1Al(OH)3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1AlCl3  + 3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B.  3Ba(OH)2  +  2H3PO4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  1Ba3(PO4)2  +  6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balanced equation and calculate the mL of 2.00 M H2SO4  required to neutralize 50.0 mL of 1.00 M K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H2SO4   + ___KOH       ___K2SO4  +  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5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)  50.0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 200.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a balanced equation and calculate the mL of 2.00 M H2SO4  required to neutralize 50.0 mL of 1.00 M KOH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___H2SO4   + ___KOH       ___K2SO4  +  H2O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2.5 m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2)  50.0 m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)   200. m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4F8-8142-4B04-893A-F7DD7CB7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1695-1287-4368-8103-A6C45ACF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07F-6575-421E-A4AF-AAC4340C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21B-8FE0-42C7-AEAF-D62B0C3D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B4A4-9053-4547-8D56-3022D63F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68D8-6676-4E9B-BAC5-846C803A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BBE6-986E-49E8-9432-01E9C4D8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C0C3-C3A7-45D5-9CFA-60F3A338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484-AFF5-4941-8BC2-3EABB19E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C45-B475-4811-9B5D-CAC8BE22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620-7F1F-43E5-A525-67D57D65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A58B-5FC4-433F-A50C-CB18C786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BED9-BA99-48B3-AF9E-0129A216D818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15C2-8F0D-48F9-B497-42D4530CCAE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F58C-1888-4DEC-AE90-3A17D6B9A227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cid-Base Neutral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Buff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cid-Base Titr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379A-B0F7-4110-AF62-CCAD331C7274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ow many mL of 2.00 M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are required to neutralize 50.0 mL of 1.00 M KOH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2KOH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0.0500 L x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.00 mole KOH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x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 mole H</a:t>
            </a:r>
            <a:r>
              <a:rPr b="1" lang="en-US" sz="3000" spc="-1" strike="noStrike" u="sng" baseline="-25000">
                <a:solidFill>
                  <a:srgbClr val="ff9900"/>
                </a:solidFill>
                <a:uFillTx/>
                <a:latin typeface="Arial"/>
              </a:rPr>
              <a:t>2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SO</a:t>
            </a:r>
            <a:r>
              <a:rPr b="1" lang="en-US" sz="3000" spc="-1" strike="noStrike" u="sng" baseline="-25000">
                <a:solidFill>
                  <a:srgbClr val="ff9900"/>
                </a:solidFill>
                <a:uFillTx/>
                <a:latin typeface="Arial"/>
              </a:rPr>
              <a:t>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x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L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2 mole KO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 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 L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x    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  1000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=    12.5 m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 mole KOH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1 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191120" y="3505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5151-0EF9-438F-BB9C-7F60EB3A90BE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3NaOH   +  H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     Na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+  3H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0.45 M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0.80 M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7.2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114800" y="4267080"/>
            <a:ext cx="6858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3D01-1B51-442F-98A8-DD7F7E4E711A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0.040 L x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.5 mole 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x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mole H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3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PO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 L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 mole NaO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x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   1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=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0.80 mol/L  = 0.80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0.025 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6EBA-D938-4F15-9841-0B219AAE2B45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utralization Reac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en acid and bases with equal amounts of hydrogen ion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hydroxide ions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re mixed, the resulting solution is 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 (aq)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 HCl(aq)          NaCl 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acid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salt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2 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acid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salt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Line 1028"/>
          <p:cNvSpPr/>
          <p:nvPr/>
        </p:nvSpPr>
        <p:spPr>
          <a:xfrm>
            <a:off x="5105520" y="403848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Line 1029"/>
          <p:cNvSpPr/>
          <p:nvPr/>
        </p:nvSpPr>
        <p:spPr>
          <a:xfrm>
            <a:off x="4952880" y="548640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B1AA-EBFC-411F-9E26-769D07DB1042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iz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mbine to produce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+     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2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from acid            from bas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neutra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Net ionic equation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  +    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1" name="Object 4" descr=""/>
          <p:cNvPicPr/>
          <p:nvPr/>
        </p:nvPicPr>
        <p:blipFill>
          <a:blip r:embed="rId1"/>
          <a:stretch/>
        </p:blipFill>
        <p:spPr>
          <a:xfrm>
            <a:off x="6629400" y="68580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D0EB-AED6-4834-A276-D68940532C72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371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ic Equations for Neutral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Write strong acids, bases, and salt as 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ross out matched 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Write a net ionic reac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1752480" y="4191120"/>
            <a:ext cx="45720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2819520" y="4191120"/>
            <a:ext cx="45720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5410080" y="4191120"/>
            <a:ext cx="53352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400800" y="4114800"/>
            <a:ext cx="533520" cy="762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572000" y="289548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724280" y="441972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4114800" y="586728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9330-72D0-4C41-AD0F-F7DAD2E6E8B3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lancing Neutralization Equa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rite the equation for the neutralization between magnesium hydroxide and nitric acid.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Write the formulas of the acid and ba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+       HNO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Balance to give equal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+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HNO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5410080" y="37339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5562720" y="54864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934D-406C-42CD-B638-FF8A7907A5CF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560" y="8380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. Write the product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Mg(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metal and nonmeta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4. Balance product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4419720" y="19051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4343400" y="457200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2209-7C58-4047-97E1-FAD0C99418C1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 HCl  + __ Al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__AlC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 __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1, 3, 3, 1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3, 1, 1, 1       3)  3, 1, 1 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__ Ba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__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__Ba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__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, 2, 2, 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3, 3, 1, 6       3)  2, 3, 1, 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4572000" y="3429000"/>
            <a:ext cx="7621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4267080" y="4952880"/>
            <a:ext cx="7621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3AE2-20C9-4263-96B3-579D6FF58377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4724280" y="28195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4495680" y="41911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A6CF-1E16-46BA-B3A3-4C66D6E1DAC1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rite a balanced equation and calculate the mL of 2.00 M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required to neutralize 50.0 mL of 1.00 M KOH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___KOH       ___K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2.5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2)  50.0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 200. m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4800600" y="45720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1T16:17:02Z</dcterms:created>
  <dc:creator>Karen Timberlake</dc:creator>
  <dc:description/>
  <dc:language>en-US</dc:language>
  <cp:lastModifiedBy>LEGION</cp:lastModifiedBy>
  <cp:lastPrinted>2009-09-14T23:28:19Z</cp:lastPrinted>
  <dcterms:modified xsi:type="dcterms:W3CDTF">2017-01-26T09:09:34Z</dcterms:modified>
  <cp:revision>28</cp:revision>
  <dc:subject/>
  <dc:title>Electrolytes</dc:title>
</cp:coreProperties>
</file>